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1D8-0F60-49A3-80F2-13ADA3D7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062-40DA-4EEE-94FE-09FC5C8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7A9-368B-4DB7-8A99-75BA60B5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0EF-04AC-4479-A291-ED86E33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3642-65DB-4531-97C2-BE3E6EFA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F53-DE3C-4BF0-A2D6-3300427D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AEC-C5CB-4A5A-95C5-921F3E7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E20-A35E-4408-BA3D-0AA8C5C3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4067-874D-4680-AC06-2D886B0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58C-B044-4A17-B647-50565D00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60AF-AC82-44B0-BC38-FB785F4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D9B-4F05-43F9-9C3F-C82DED4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B8F-5ABC-41CA-AEBA-752D58C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A01-579E-4ED4-8EF9-03CD566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3E73-877E-403C-BC8C-812BE954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B6CB-4991-4E89-8683-F62C0E0C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A364-1353-4D27-94EA-3A1408E0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EAC8-25D6-417F-A012-525683FC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69CA-0084-41B5-B9A0-54F91DA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3D81-5096-4E45-99F6-663E9A9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B047-2854-4EBE-8509-58D7FE26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F398-0E3E-450C-B948-00DA56A5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871-75C0-4256-98D4-9C75FB0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CD94-5D44-4B92-9E45-7021838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A1B8-060E-4335-968F-5E2E68B1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260A-B3EC-47E8-ADEA-7740653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8063-BD59-4D83-9F42-7E60D0C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8F66-31BC-46FF-A844-704465E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8DA4-E396-43D0-96D6-F5F5F79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E182-3D1B-4272-92B5-9F897DC2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DE26-1F3B-4A61-837C-D4BABD10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1D04-830B-4A65-BE07-AA4C9BC0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72CF-85D8-4901-82A3-532CBB0C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8CA-B3CF-4B18-8BE8-5D8FB8DD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567B-AECD-4C13-A497-406077E6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AF3E-FA07-453E-8D3F-F758425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40C1-DDAC-413F-B730-5AE52618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665B-916B-4CF0-A7DD-1B9AFE7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64FA-116A-44CE-A024-E9B7EEF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FBBA-E722-4C47-A447-828C265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D685-DC5A-4E01-BD30-DC326FD2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6EFF-632D-46ED-8BD0-1B925157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2A32-F42C-4F48-B5C6-E8351405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B56-93B3-4ADE-8F0B-774CB662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39E-4B3A-4D73-9683-FC31BB0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C1E-4173-431B-89DD-C17F9C0C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EC1-7EE4-4F36-A377-D31643A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2FC-895A-41D4-9F7C-362A9F9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45A-945F-499E-93FC-8FB1DC81922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278-75E0-4811-9685-9B31C554408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C27-6B5C-4955-833D-C939B73EAC5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3031-DC2A-49C0-B2E5-D3E572E80B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8BF-C3FC-486B-AFE4-1EBD1BE824D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1916280"/>
            <a:ext cx="7200720" cy="23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е обеспечение педагогической аттестации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мы и процедуры аттестации педагогических кадров Республики Татарстан в 2014 году</a:t>
            </a: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оллаж2"/>
          <p:cNvPicPr/>
          <p:nvPr/>
        </p:nvPicPr>
        <p:blipFill>
          <a:blip r:embed="rId1"/>
          <a:stretch/>
        </p:blipFill>
        <p:spPr>
          <a:xfrm>
            <a:off x="395280" y="3857760"/>
            <a:ext cx="846288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Герб Республики Татарстан"/>
          <p:cNvPicPr/>
          <p:nvPr/>
        </p:nvPicPr>
        <p:blipFill>
          <a:blip r:embed="rId2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7D49-57B7-4AE7-A6A1-8BF47D3E2C9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A81A-48D6-408C-9CA8-5739D1748D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5EBA-8F48-464E-A446-EE25C5DE59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ворческой, физкультурно-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анслирования в педагог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ллективах 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ей профессиональ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ических 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64CC-AD15-43F4-ADFD-EDB0AB6A20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6FE0-BB9E-46D8-BCA7-6706C61599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ли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работник проходи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9900ff"/>
                </a:solidFill>
                <a:uFillTx/>
                <a:latin typeface="Calibri"/>
              </a:rPr>
              <a:t>Тестирование проводится:</a:t>
            </a:r>
            <a:br>
              <a:rPr sz="3100"/>
            </a:br>
            <a:br>
              <a:rPr sz="28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ЕГЭ, ЕРЭ </a:t>
            </a: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в РЦМКО (8843)223-09-17)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едагогов и директоров – в системе «Электронное образование» (руководство  по тестированию на сайте МО и Н РТ)</a:t>
            </a:r>
            <a:br>
              <a:rPr sz="2600"/>
            </a:b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Зачетный миниму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7636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перв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7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высш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8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1C5E-56CA-4077-8854-9928459696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88E1-AEAA-42D4-A00F-6100F7229E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539640" y="9810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электронного документооборота «Аттестац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Электронном 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астники взаимоотношений в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ИС «АТТЕСТАЦИЯ» (по уровням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3440" y="3957480"/>
            <a:ext cx="5257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СПЕЦИАЛИСТ, МЕТОДИСТ ОТДЕЛА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36440" y="286056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 flipH="1">
            <a:off x="6734160" y="3068640"/>
            <a:ext cx="2160720" cy="862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79280" y="558972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АТТЕСТАЦИОННАЯ КОМИ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(МОиН 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-360" y="3141720"/>
            <a:ext cx="39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 статье </a:t>
            </a:r>
            <a:r>
              <a:rPr b="1" lang="ru-RU" sz="2200" spc="-1" strike="noStrike">
                <a:solidFill>
                  <a:srgbClr val="0d29b3"/>
                </a:solidFill>
                <a:latin typeface="Arial Narrow"/>
              </a:rPr>
              <a:t>«Строительство справедливости. Социальная политика для России»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.В. Путин обратил внимание на необходимость выхода на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ЭФФЕКТИВНЫЙ КОНТРАКТ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с педагогическими работник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http://phapluattp2.vcmedia.vn/Rpg7DiB2SyW22i2esZK04OmnfDjccc/Image/2012/03/24/putinl_eb23d.jpg"/>
          <p:cNvPicPr/>
          <p:nvPr/>
        </p:nvPicPr>
        <p:blipFill>
          <a:blip r:embed="rId1"/>
          <a:stretch/>
        </p:blipFill>
        <p:spPr>
          <a:xfrm>
            <a:off x="4140360" y="1197000"/>
            <a:ext cx="45576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Picture 18" descr="http://belnovosti.ru/files/styles/thumbnail/public/news/13043_26547.jpg?itok=3v7uS_cs"/>
          <p:cNvPicPr/>
          <p:nvPr/>
        </p:nvPicPr>
        <p:blipFill>
          <a:blip r:embed="rId2"/>
          <a:stretch/>
        </p:blipFill>
        <p:spPr>
          <a:xfrm rot="19682400">
            <a:off x="6455880" y="4308120"/>
            <a:ext cx="2433600" cy="16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Picture 20" descr="http://www.edinros-arz.ru/files/photo/news/news_43_1_1.jpg"/>
          <p:cNvPicPr/>
          <p:nvPr/>
        </p:nvPicPr>
        <p:blipFill>
          <a:blip r:embed="rId3"/>
          <a:srcRect l="0" t="0" r="30975" b="51797"/>
          <a:stretch/>
        </p:blipFill>
        <p:spPr>
          <a:xfrm>
            <a:off x="4140360" y="4581360"/>
            <a:ext cx="302400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80"/>
            <a:ext cx="7848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ффективный контрак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15"/>
          <p:cNvSpPr/>
          <p:nvPr/>
        </p:nvSpPr>
        <p:spPr>
          <a:xfrm>
            <a:off x="324000" y="9810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дним из ключевых направлений государственной политики является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развитие педагогического кадрового потенц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154080" y="1533600"/>
            <a:ext cx="525780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т в свой кабинет в Электр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рез логин, па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 октября каждого текущего года начало аттестационных процед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20600" y="4862520"/>
            <a:ext cx="5256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тслеживает (при необходимости) на какой стадии находится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 направления дело экспертам, доступ к личному делу должен быть закр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08000" y="3308400"/>
            <a:ext cx="5256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ентябре месяце каждого текущего года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заполняет заявление (электронная форма – пересылается в личное дело аттестуемого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Заявка на тес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 flipH="1">
            <a:off x="6732000" y="3235320"/>
            <a:ext cx="2160360" cy="1511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формляет лист самооценки (автоматически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2015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Заполняет электронную форму аттестацион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41120" y="3078000"/>
            <a:ext cx="5330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кладывает электронную форму (скан)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 flipH="1">
            <a:off x="6732000" y="3068640"/>
            <a:ext cx="2160360" cy="13262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лняет электронную форму карты результ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 аттестационное дело (заявле-ние аттестуемого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65040" y="439740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Аттестационного листа не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8"/>
          <p:cNvSpPr/>
          <p:nvPr/>
        </p:nvSpPr>
        <p:spPr>
          <a:xfrm flipH="1">
            <a:off x="5398920" y="2627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 flipH="1">
            <a:off x="6732000" y="3068640"/>
            <a:ext cx="2160360" cy="16311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Заместитель директора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52360" y="5157720"/>
            <a:ext cx="5254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яет аттестационное дело, в «Отдел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5398920" y="455940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икладывает электронную фор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,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41120" y="328464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электронную форму карты результативност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не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54080" y="1533600"/>
            <a:ext cx="5257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ет график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ов (направляет экспертов к учит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20600" y="4862520"/>
            <a:ext cx="5256360" cy="18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яет документы. Определяет экспертов. Открывает доступ к документам аттестумых экспер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дело в аттестационную комис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3308400"/>
            <a:ext cx="525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документы на соответствие требованиям к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 flipH="1">
            <a:off x="6804000" y="3357720"/>
            <a:ext cx="2160720" cy="1008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пециалист отдела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79280" y="148428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ивает АС в актуальн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Обеспечивает организацию  работы экспертных комиссий 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 flipH="1">
            <a:off x="6734160" y="3068640"/>
            <a:ext cx="2160720" cy="1313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Электронное образование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179280" y="558972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 в системе  аттестационные документы к заседанию АК МОиН РТ, проводит мониторинг по итогам проведения аттес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79280" y="2565360"/>
            <a:ext cx="525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научно-методическое сопровождение аттес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8"/>
          <p:cNvSpPr/>
          <p:nvPr/>
        </p:nvSpPr>
        <p:spPr>
          <a:xfrm>
            <a:off x="536400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79280" y="364500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веряет документы на соответствие требованиям Н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А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т заседание 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3360" y="407664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ает документы по итогам  аттестации на своем «са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5364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136440" y="2860560"/>
            <a:ext cx="5256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РИНИМАЕТ РЕШ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КАЛЬНЫЙ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 flipH="1">
            <a:off x="6736680" y="3068640"/>
            <a:ext cx="2160360" cy="14724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Аттестацион-ная комиссия 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79280" y="530064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ает указание по завершению аттестационного дела и передачи дела в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5435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Этапы прохождения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заявления. Заявка на тест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ттестационного дела (статус «формирование аттест.де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атт.дела в отдел образования и его проверка(статус «аттестационное дело сформировано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дел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атус «аттестац.дело ожидает подтверждения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де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инятие решения (статус «аттест.дело рассмотрено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аспорядительного акта (статус « соответствует /не соответствует «заявленной» категори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5511-E20A-42DA-80F3-11AF788B9F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 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F9F-A787-43B1-AFC5-C9B6C657AF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250920" y="16200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ых групп для утверждения приказ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МО и Н Р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самооценки 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Times New Roman"/>
              </a:rPr>
              <a:t>На 2015 год включить в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791E-AB94-447C-B43D-AA8EBA416D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зависимые экспер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 педагогическим работни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при повторной аттест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наличии у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остижений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на профессиональн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конкурсах, предметных олимпиадах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государственных, отраслевых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награ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3600" spc="-1" strike="noStrike">
                <a:solidFill>
                  <a:srgbClr val="0f6fc6"/>
                </a:solidFill>
                <a:latin typeface="Times New Roman"/>
              </a:rPr>
              <a:t>Федеральный </a:t>
            </a:r>
            <a:r>
              <a:rPr b="0" lang="ru-RU" sz="3200" spc="-1" strike="noStrike">
                <a:solidFill>
                  <a:srgbClr val="0f6fc6"/>
                </a:solidFill>
                <a:latin typeface="Times New Roman"/>
              </a:rPr>
              <a:t>Закон</a:t>
            </a:r>
            <a:br>
              <a:rPr sz="3200"/>
            </a:br>
            <a:r>
              <a:rPr b="1" lang="ru-RU" sz="40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2707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тья 49. Аттестация педагогических работни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0F71-2FA3-4B86-9023-3AC5B2848F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0B96-453D-49EA-9CD4-2A5C89F4D76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448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ажно!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169992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Для </a:t>
            </a: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высшей </a:t>
            </a: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категории  дополнительно проводится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в рамках методических конкурс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научно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–практических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конферен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спубликанск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федеральн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международного уров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6767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чень документов необходимы для ИС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Constantia"/>
              </a:rPr>
              <a:t>Заявл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Аттестационный лист старый для высше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Карта результативности профессиональной деятельности для все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Заключение эксперти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Удостоверение о курсах , заверен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Рецензия или отзыв на  авторские разработки ( или  документ об участии в методическом конкурсе республиканского уровн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840-287D-41F2-BD1F-82A53A04D6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каз Министерства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науки Республики Татарст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О проведении аттестац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Республики Татарстан  в 2014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468360" y="260280"/>
            <a:ext cx="79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  <a:ea typeface="Andalus"/>
              </a:rPr>
              <a:t>Региональные 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9E9-76FD-443C-ACA3-38C05A746CD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№ 4231/14 от 25.07.201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 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 «Об утвержд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 об экспертной комиссии по муниципальному образованию Республики Татарстан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4FD4-BB92-4CDB-AC66-5096947769F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каз МО и Н РТ №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3669/14 от 14 июля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4 г. «Об утверждении Положения о формах и процедурах аттестации педагогических работников РТ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1EC6-00A6-4B3B-ACD8-013ACD7365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траслевое соглашение  с  профсоюзом работников образования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 на подтверждение СЗ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экспертизы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аличии заслуг, отраслевых и государственных награ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 квалификационных категори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 разных должностях (учебных предметах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C6FB-78A5-4A1D-AED2-BE8A75D51C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56B-3178-42F7-9AA5-AB413F0DD0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8137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НА  ПЕРВУЮ  И ВЫСШУЮ  КАТЕГОРИЮ в 2014 г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Октябрь 2014 </a:t>
            </a: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г.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оябрь </a:t>
            </a: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2014 г</a:t>
            </a:r>
            <a:r>
              <a:rPr b="0" lang="ru-RU" sz="29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абота экспертных 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Декабрь 2014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г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правление договоров на экспертов в МО и Н Р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5CF4-B296-4A7B-9391-5188A27E44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Объект 3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321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533B-F63A-47E9-957D-398EF98595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438-200B-43F5-BCAC-A9CEC8DDE5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5056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55D3-E122-4AB0-8941-791D1EA826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Admin</cp:lastModifiedBy>
  <cp:lastPrinted>2014-08-27T17:24:32Z</cp:lastPrinted>
  <dcterms:modified xsi:type="dcterms:W3CDTF">2014-09-15T09:57:26Z</dcterms:modified>
  <cp:revision>243</cp:revision>
  <dc:subject/>
  <dc:title>Слайд 1</dc:title>
</cp:coreProperties>
</file>